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82B-91E8-4435-B110-0988F8E0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E085-6DA3-47B6-9699-B20D55A9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761-DA23-44B7-90C2-9146BF75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31D-AC97-4249-8E2A-AC2FA9EF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F6D-13D0-4F08-BA5E-9AB410BD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93D-30CB-42C9-8E6E-5C4B8EBC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327-F5D7-4985-95FA-BE69B2B6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51D-FCF7-44A8-940C-8CFF7CB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A73-36B0-4F65-81D8-692211E2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4A7-0D3F-4280-9589-9757971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D0F-EF1E-4D5F-A931-CCF7CD1B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96B-B6CF-4211-A203-F51048C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CEE-9DC5-4DB6-A4FC-B8747DE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CF5-F8A7-4980-A868-116B866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4CDC-70B7-449E-AE61-100565467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801720"/>
            <a:ext cx="8458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YOU BUILD THE FOLLOWING MODE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A and Plane B are parallel.  Plane C is perpendicular to Planes A and B.  Line DE intersects Plane A and Plane B but not Plane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s A, B, C and D all intersect in Line E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M and Plane N are perpendicular.  Line RS intersects each plane at exactly one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e R and Plane S are parallel.  Plane Q intersects Plane R in Line AB and Plane Q intersects Plane S in Line CD.  Plane Q is not perpendicular to Planes R and 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20:16Z</dcterms:created>
  <dc:creator> </dc:creator>
  <dc:description/>
  <dc:language>en-US</dc:language>
  <cp:lastModifiedBy>Administratr</cp:lastModifiedBy>
  <dcterms:modified xsi:type="dcterms:W3CDTF">2010-08-06T00:31:38Z</dcterms:modified>
  <cp:revision>4</cp:revision>
  <dc:subject/>
  <dc:title>Slide 1</dc:title>
</cp:coreProperties>
</file>